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BA9-ABC4-4763-B7E1-989155B7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A95-AD82-4C74-B8D4-B7E9B93F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22F5-457E-4E72-A723-78927371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594-7B0E-4E7C-839D-AE835BF5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0FB-43C0-4AE7-B990-59168630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5D9-E905-4612-9A72-467892D5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298-B7F2-441B-9F43-CE9C9CCB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079-8333-486B-AA25-CE3F0062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80C9-0D1C-4162-8F25-55C1F140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C47B-4C9F-4BF4-8553-2B8B932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FF2-346D-444A-A057-F43B06F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228-5ED1-476B-AB8C-8052A0A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5715-B60B-4A8A-9120-3A4F8C873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blc1519f03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Mblasp10f04" descr=""/>
          <p:cNvPicPr/>
          <p:nvPr/>
        </p:nvPicPr>
        <p:blipFill>
          <a:blip r:embed="rId2"/>
          <a:stretch/>
        </p:blipFill>
        <p:spPr>
          <a:xfrm>
            <a:off x="152280" y="369576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3160" y="7632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cleaning: UV 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blasp10f02" descr=""/>
          <p:cNvPicPr/>
          <p:nvPr/>
        </p:nvPicPr>
        <p:blipFill>
          <a:blip r:embed="rId3"/>
          <a:stretch/>
        </p:blipFill>
        <p:spPr>
          <a:xfrm>
            <a:off x="152280" y="55260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8520" y="56340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before UV ozone clea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8880" y="373392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d w. better tip (same da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71760" y="609480"/>
            <a:ext cx="27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cleaning (and 5 days la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30440" y="3809880"/>
            <a:ext cx="312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It seems it does work a bit at le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7720" y="4114800"/>
            <a:ext cx="4112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ure use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tip in etha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V ozone cleaner for 1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oor room 828, contact person Rob Zonderv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nse with ethanol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uspect that it is the last ethanol rinse that is importa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562720"/>
            <a:ext cx="3809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mple is MBL/MASP complexes. It seems we only see MASP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nsity is probably very low due to a rinse with buffer before DI water rins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haps complexes sedimented due to 6 min ultracentrifugation or they wre washed of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32280" y="6485040"/>
            <a:ext cx="141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nriette October 15 200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5:43:30Z</dcterms:created>
  <dc:creator>Henriette Jensenius</dc:creator>
  <dc:description/>
  <dc:language>en-US</dc:language>
  <cp:lastModifiedBy>hjensen</cp:lastModifiedBy>
  <dcterms:modified xsi:type="dcterms:W3CDTF">2003-07-11T09:04:22Z</dcterms:modified>
  <cp:revision>5</cp:revision>
  <dc:subject/>
  <dc:title>PowerPoint Presentation</dc:title>
</cp:coreProperties>
</file>